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C7051-AA98-4B28-91ED-4F0C26083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644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1120"/>
            <a:ext cx="90644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8123B-A4A6-4833-8E98-7E3DEA737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7640" y="176796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112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7640" y="437112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7E9CF-26D7-41D7-9A99-3E63CB6E0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29185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7600" y="1767960"/>
            <a:ext cx="29185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2640" y="1767960"/>
            <a:ext cx="29185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1120"/>
            <a:ext cx="29185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7600" y="4371120"/>
            <a:ext cx="29185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2640" y="4371120"/>
            <a:ext cx="29185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76D49-FFD9-40DF-997E-2CC9D2C02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F5628-16F4-4216-8DD0-8523FCD07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2920" y="1767960"/>
            <a:ext cx="906444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3A926-68EB-4860-80CA-1F3BDA25D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6444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1EF9E-5267-44BB-86F4-2DCC36416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332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7640" y="1767960"/>
            <a:ext cx="442332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ED1EB-18C2-4B0D-8889-C070E210A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7AE27-C82A-474C-B158-E273CAC08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2920" y="301680"/>
            <a:ext cx="90644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8D424-A4F5-4138-AB14-724058476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7640" y="1767960"/>
            <a:ext cx="442332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2920" y="437112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B413D-4901-4E55-B3C4-84D7B3EB8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7960"/>
            <a:ext cx="906444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B1BF5-B265-42BB-A3E8-DFB495C1E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332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7640" y="176796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7640" y="437112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477AA-6441-4D5C-B43D-D992385A6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7640" y="176796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2920" y="4371120"/>
            <a:ext cx="90644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738FA-EDF3-45CD-86D8-EE6E34526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644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2920" y="4371120"/>
            <a:ext cx="90644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7B362-4B61-429E-8DE9-2DB6D3573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7640" y="176796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2920" y="437112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7640" y="437112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5CA6D-9D70-4379-8F38-BD0D16554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29185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7600" y="1767960"/>
            <a:ext cx="29185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2640" y="1767960"/>
            <a:ext cx="29185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2920" y="4371120"/>
            <a:ext cx="29185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7600" y="4371120"/>
            <a:ext cx="29185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2640" y="4371120"/>
            <a:ext cx="29185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4045E-874A-4F51-B8A6-DF6E3F7BB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6444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8E40F-9F13-4B7E-97F9-AB0787A0C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332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7640" y="1767960"/>
            <a:ext cx="442332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99DB3-ABB8-4C60-A6B9-1358603BB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F6709-FFE7-46EC-8DFC-ECC2FCC70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680"/>
            <a:ext cx="90644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72186-9735-4173-A3AF-40F665C12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7640" y="1767960"/>
            <a:ext cx="442332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112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0279D-FFAB-4CFA-A50C-B7B312B3C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332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7640" y="176796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7640" y="437112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0EB14-585B-4B28-87CC-D7123C3E6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7640" y="176796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1120"/>
            <a:ext cx="90644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78046-C4AB-4097-BCF2-3D35F8572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300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0000" cy="5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7800" cy="5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080"/>
            <a:ext cx="2340000" cy="5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F34925-126C-4FEF-90E8-C447B7A41AC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2920" y="1767960"/>
            <a:ext cx="906444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3280" y="6886080"/>
            <a:ext cx="23414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7720" y="6886080"/>
            <a:ext cx="3189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360" y="6886080"/>
            <a:ext cx="234180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E12117-65DA-4694-8295-8C9494E98E8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6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Yasser Arafat 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5840" cy="49183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Oct 199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Matt Gallo, Tabby Dodson.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5840" cy="49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5029200" y="1828800"/>
            <a:ext cx="4572000" cy="525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2920" y="43488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502920" y="1901880"/>
            <a:ext cx="9070920" cy="499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2920" y="43488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502920" y="1901880"/>
            <a:ext cx="9070920" cy="499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2920" y="43488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502920" y="1901880"/>
            <a:ext cx="9070920" cy="499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2920" y="43488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502920" y="1901880"/>
            <a:ext cx="9070920" cy="499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02920" y="43488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502920" y="1901880"/>
            <a:ext cx="9070920" cy="499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2920" y="43488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502920" y="1901880"/>
            <a:ext cx="9070920" cy="499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2920" y="43488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502920" y="1901880"/>
            <a:ext cx="9070920" cy="499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02920" y="43488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502920" y="1901880"/>
            <a:ext cx="9070920" cy="499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02920" y="43488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502920" y="1901880"/>
            <a:ext cx="9070920" cy="499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2920" y="43488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2920" y="1901880"/>
            <a:ext cx="9070920" cy="499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514600" y="0"/>
            <a:ext cx="5029200" cy="7559640"/>
          </a:xfrm>
          <a:custGeom>
            <a:avLst/>
            <a:gdLst>
              <a:gd name="textAreaLeft" fmla="*/ 360 w 5029200"/>
              <a:gd name="textAreaRight" fmla="*/ 5028840 w 5029200"/>
              <a:gd name="textAreaTop" fmla="*/ 360 h 7559640"/>
              <a:gd name="textAreaBottom" fmla="*/ 7559280 h 7559640"/>
            </a:gdLst>
            <a:ahLst/>
            <a:rect l="textAreaLeft" t="textAreaTop" r="textAreaRight" b="textAreaBottom"/>
            <a:pathLst>
              <a:path w="21600" h="32467">
                <a:moveTo>
                  <a:pt x="6" y="0"/>
                </a:moveTo>
                <a:arcTo wR="6" hR="6" stAng="16200000" swAng="-5400000"/>
                <a:lnTo>
                  <a:pt x="0" y="32461"/>
                </a:lnTo>
                <a:arcTo wR="6" hR="6" stAng="10800000" swAng="-5400000"/>
                <a:lnTo>
                  <a:pt x="21594" y="32467"/>
                </a:lnTo>
                <a:arcTo wR="6" hR="6" stAng="5400000" swAng="-5400000"/>
                <a:lnTo>
                  <a:pt x="21600" y="6"/>
                </a:lnTo>
                <a:arcTo wR="6" hR="6" stAng="0" swAng="-5400000"/>
                <a:close/>
              </a:path>
            </a:pathLst>
          </a:custGeom>
          <a:solidFill>
            <a:srgbClr val="ff420e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2743200" y="349200"/>
            <a:ext cx="4483080" cy="69660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2743200" y="0"/>
            <a:ext cx="182880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 199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200400" y="1143000"/>
            <a:ext cx="365760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29000" y="833400"/>
            <a:ext cx="3200400" cy="25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8000" spc="-1" strike="noStrike">
                <a:solidFill>
                  <a:srgbClr val="ff0000"/>
                </a:solidFill>
                <a:latin typeface="Book Antiqua"/>
              </a:rPr>
              <a:t> </a:t>
            </a:r>
            <a:r>
              <a:rPr b="0" lang="en-US" sz="8000" spc="-1" strike="noStrike">
                <a:solidFill>
                  <a:srgbClr val="ff0000"/>
                </a:solidFill>
                <a:latin typeface="Book Antiqua"/>
              </a:rPr>
              <a:t>TIME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693880" y="301680"/>
            <a:ext cx="4800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Yasser Araf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Ultimate Peace Prize?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39000" y="4592520"/>
            <a:ext cx="1371600" cy="26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For efforts to make peace in the middle east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2920" y="43488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502920" y="1901880"/>
            <a:ext cx="9070920" cy="499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2920" y="43488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502920" y="1901880"/>
            <a:ext cx="9070920" cy="499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2920" y="43488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502920" y="1901880"/>
            <a:ext cx="9070920" cy="499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02920" y="43488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502920" y="1901880"/>
            <a:ext cx="9070920" cy="499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2920" y="43488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502920" y="1901880"/>
            <a:ext cx="9070920" cy="499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02920" y="43488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502920" y="1901880"/>
            <a:ext cx="9070920" cy="499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2920" y="43488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502920" y="1901880"/>
            <a:ext cx="9070920" cy="499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2920" y="43488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502920" y="1901880"/>
            <a:ext cx="9070920" cy="499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2920" y="43488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502920" y="1901880"/>
            <a:ext cx="9070920" cy="499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2920" y="43488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502920" y="1901880"/>
            <a:ext cx="9070920" cy="499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503280" y="301680"/>
            <a:ext cx="9069480" cy="12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Home land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2824200" y="1371600"/>
            <a:ext cx="4262400" cy="6188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2920" y="43488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502920" y="1901880"/>
            <a:ext cx="9070920" cy="499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2920" y="43488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502920" y="1901880"/>
            <a:ext cx="9070920" cy="499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2920" y="43488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502920" y="1901880"/>
            <a:ext cx="9070920" cy="499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2920" y="43488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502920" y="1901880"/>
            <a:ext cx="9070920" cy="499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02920" y="43488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502920" y="1901880"/>
            <a:ext cx="9070920" cy="499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2920" y="43488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502920" y="1901880"/>
            <a:ext cx="9070920" cy="499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02920" y="43488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502920" y="1901880"/>
            <a:ext cx="9070920" cy="499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2920" y="43488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502920" y="1901880"/>
            <a:ext cx="9070920" cy="499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02920" y="43488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502920" y="1901880"/>
            <a:ext cx="9070920" cy="499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2920" y="43488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502920" y="1901880"/>
            <a:ext cx="9070920" cy="499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Homes 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529920" y="1864800"/>
            <a:ext cx="907092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57200" y="1863720"/>
            <a:ext cx="9144000" cy="522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2920" y="43488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502920" y="1901880"/>
            <a:ext cx="9070920" cy="499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2920" y="43488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2920" y="1901880"/>
            <a:ext cx="9070920" cy="499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2920" y="43488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502920" y="1901880"/>
            <a:ext cx="9070920" cy="499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2920" y="43488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502920" y="1901880"/>
            <a:ext cx="9070920" cy="499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2920" y="43488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2920" y="1901880"/>
            <a:ext cx="9070920" cy="499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2920" y="43488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502920" y="1901880"/>
            <a:ext cx="9070920" cy="499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2920" y="43488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2920" y="1901880"/>
            <a:ext cx="9070920" cy="499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2920" y="43488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502920" y="1901880"/>
            <a:ext cx="9070920" cy="499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2920" y="43488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502920" y="1901880"/>
            <a:ext cx="9070920" cy="499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02920" y="43488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502920" y="1901880"/>
            <a:ext cx="9070920" cy="499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02920" y="431280"/>
            <a:ext cx="9070920" cy="12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Attempt to solve the Arab-Israeli conflict. 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456840" y="2093400"/>
            <a:ext cx="907092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722160" y="2481120"/>
            <a:ext cx="8686800" cy="47628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457200" y="2152800"/>
            <a:ext cx="3029040" cy="15048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4"/>
          <a:stretch/>
        </p:blipFill>
        <p:spPr>
          <a:xfrm>
            <a:off x="6256440" y="2106720"/>
            <a:ext cx="3200400" cy="16002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3886200" y="2514600"/>
            <a:ext cx="2057400" cy="13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Arial"/>
              </a:rPr>
              <a:t>VS.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02920" y="43488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502920" y="1901880"/>
            <a:ext cx="9070920" cy="499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2920" y="43488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502920" y="1901880"/>
            <a:ext cx="9070920" cy="499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02920" y="43488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502920" y="1901880"/>
            <a:ext cx="9070920" cy="499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Early life 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mother died when he was 5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father was merchant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lived with his uncl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lived in Jerusale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48360" y="1767960"/>
            <a:ext cx="4424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Adult life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04800" y="1828440"/>
            <a:ext cx="4424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ationality-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lestini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litical party-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ata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pouse-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ha Arafat 1990–200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ildren- Zahwa Arafat (born) 1995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148360" y="1767960"/>
            <a:ext cx="4424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149800" y="1828800"/>
            <a:ext cx="4114800" cy="293364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5133960" y="4390920"/>
            <a:ext cx="4095720" cy="269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2920" y="43488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502920" y="1901880"/>
            <a:ext cx="9070920" cy="499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2920" y="43488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502920" y="1901880"/>
            <a:ext cx="9070920" cy="499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1T17:32:24Z</dcterms:created>
  <dc:creator/>
  <dc:description/>
  <dc:language>en-US</dc:language>
  <cp:lastModifiedBy/>
  <cp:revision>1</cp:revision>
  <dc:subject/>
  <dc:title/>
</cp:coreProperties>
</file>